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7434-B4AA-4129-9276-0C588D36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C47-D475-4AEE-9A2A-DB678505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B95-729F-4099-9BBC-888DD443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52F-8BA0-4BA9-A7C6-E18E6FFC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754-BE08-4CAC-9CDA-16B763DA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E3A-0ABE-4980-B26A-1FAE3E69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64E-F59A-4BE7-86CC-848769B2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F7E-7C08-4BBF-90A0-5DF8C239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1C2-16D3-4A59-8767-97A952A9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41C-9AED-44B4-B679-499193CF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638-247C-46BC-932D-43B794F4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638-AD60-4333-8969-C281DFAD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0C66-0348-4A19-9144-BECA67F6A73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Wav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ave 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v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the primary force causing erosion along coastlin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ve is formed by the wind blowing across the surface of the water, creating ripples, which then grow into wa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waves reach the coast the lower section slows due to fri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per section topples over and breaks forw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e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termines how powerful a wave may b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distance that the wave has travelled. For instance, a wave hitting the coast of Cornwall may have travelled over 4000 miles to get there, all the way across the Atlant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 a wave hitting Dover may have only travelled the width of the English Chann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owrc.com/waves/WaveFetch.gif"/>
          <p:cNvPicPr/>
          <p:nvPr/>
        </p:nvPicPr>
        <p:blipFill>
          <a:blip r:embed="rId1"/>
          <a:stretch/>
        </p:blipFill>
        <p:spPr>
          <a:xfrm>
            <a:off x="185760" y="2124000"/>
            <a:ext cx="88549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structive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) Their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backwash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is much stronger than their swash, thus allowing them to remove material from the beach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i) They are frequent in number, usually between 10 and 15 per minut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ii) They are tall waves, meaning they have a greater distance to fall when they break. This causes them to scour out the beach material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v) Destructive waves create a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steep narrow beach.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coastallandforms102.wikispaces.com/file/view/destructivewaves.gif/100349549/destructivewaves.gif"/>
          <p:cNvPicPr/>
          <p:nvPr/>
        </p:nvPicPr>
        <p:blipFill>
          <a:blip r:embed="rId1"/>
          <a:stretch/>
        </p:blipFill>
        <p:spPr>
          <a:xfrm>
            <a:off x="0" y="907920"/>
            <a:ext cx="914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tructive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) Thei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was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much stronger than their backwash, causing the beach to be built up by the deposited materi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) They are less frequent, reaching shore between 6 and 9 times each minu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) They are long waves and so roll onto the beach rather than crashing onto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) Constructive waves create a wide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tly sloping beach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geography.learnontheinternet.co.uk/images/coast/constructivewaves.gif"/>
          <p:cNvPicPr/>
          <p:nvPr/>
        </p:nvPicPr>
        <p:blipFill>
          <a:blip r:embed="rId1"/>
          <a:stretch/>
        </p:blipFill>
        <p:spPr>
          <a:xfrm>
            <a:off x="0" y="907920"/>
            <a:ext cx="914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3:13:45Z</dcterms:created>
  <dc:creator>Dell_02</dc:creator>
  <dc:description/>
  <dc:language>en-US</dc:language>
  <cp:lastModifiedBy>Dell_02</cp:lastModifiedBy>
  <dcterms:modified xsi:type="dcterms:W3CDTF">2011-01-26T23:34:05Z</dcterms:modified>
  <cp:revision>2</cp:revision>
  <dc:subject/>
  <dc:title>Waves</dc:title>
</cp:coreProperties>
</file>